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2007-F01A-445D-8A80-30BB60C7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86F-67CC-44F4-81ED-4BC4023E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CD5-81E3-4B64-8213-691AA2C1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BC5C-51AB-4CBE-9D7C-E6A62707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B082-C51C-4358-AFE8-00C5BFB0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773-D7AE-4AF5-B2A8-4FF06059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1BC-4C6A-4321-B383-F69F2689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0639-BCF6-4489-B5C7-310CA923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F97F-4E29-4F76-B15A-DDE27AA1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50C-C020-457D-B75D-F9851215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CAC-75A3-440B-AFB1-B79A38A5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9195-60B9-412F-8B66-0A9BC883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D529-0AF3-4B75-BB1A-95957951B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Компьютерная графика. Создание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оделей в графическом редакторе».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ктионов Костя 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КУ Таскинская ОО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авне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7" descr=""/>
          <p:cNvPicPr/>
          <p:nvPr/>
        </p:nvPicPr>
        <p:blipFill>
          <a:blip r:embed="rId1"/>
          <a:stretch/>
        </p:blipFill>
        <p:spPr>
          <a:xfrm>
            <a:off x="0" y="1413000"/>
            <a:ext cx="4500720" cy="544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00720" y="1413000"/>
            <a:ext cx="46432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Список литерату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43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И. Мураховский «Компьютерная графика», Москва, издательство «АСТ-ПРЕСС», 2002 год, стр. 16-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лий Леонтьев «Новейшая энциклопедия персонального компьютера 2005», Москва, издательство «Олма-пресс», 2005 год, стр. 462-4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Г. Гейн, А.И. Сенокосов, Н.А. Юнерман «Информатика 10-11 кл.», Москва, издательство «Просвещение», 2001 год, стр. 48-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В. Симонович, Г.А. Евсеев «Занимательный компьютер», Москва, издательство «АСТ-ПРЕСС», 2003 год, стр. 26-2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мпьютер для детей», Москва, издательство «АСТ-ПРЕСС», 2000 год, стр. 12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 Фролов «Энциклопед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003», Москва, ЗАО «Новый издательский дом», 2004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арова «Информатика», Москва, издательство «Финансы и статистика»,  2004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В. Могилев, Н.И. Пак, Е.К. Хеннер «Информатика», Москва, издательство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ADEM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, 2003 год, стр. 167-18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А. Хлебанина энциклопедия для детей, том 22 «Информатика», Москва, издательство «Аванта», 2003 год, стр. 298-3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Д. Угринович «Информатика и информационные технологии 10-11 классы», Москва, издательство «Бином», 2003 год, стр. 304-3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значимость, как можно глубже изучить и обобщить знания по теме «Компьютерная графика. Создание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ей в графическом редактор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Изучение литературы по данн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ровести иссле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Подготовить презент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в обычном графическом редакторе создать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л иссле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ёл информацию в интернете о том что такое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дробнее изучил компьютерную графи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пытался создать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ь в обычном графическом редактор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 3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7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5T00:59:52Z</dcterms:created>
  <dc:creator>Пользователь</dc:creator>
  <dc:description/>
  <dc:language>en-US</dc:language>
  <cp:lastModifiedBy>Пользователь</cp:lastModifiedBy>
  <dcterms:modified xsi:type="dcterms:W3CDTF">2019-04-16T02:54:22Z</dcterms:modified>
  <cp:revision>6</cp:revision>
  <dc:subject/>
  <dc:title>«Компьютерная графика. Создание 3D моделей в графическом редакторе». </dc:title>
</cp:coreProperties>
</file>